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F46BDB-91ED-4A14-9B3B-4018BB15DC0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C9CDC1-77EB-48F4-8373-5BEFA3F33BA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107B8B-5557-4315-B924-8F61DF9F46F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E89-244B-4E4B-9E3D-D26760CD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51E-F0C1-4550-A899-2E6430D0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38A49-D38B-4E20-BCE8-E9339B8FD0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4D438-BFE5-4B4D-8FF1-A641BDA4C3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9B5D6-543F-42E0-B179-7603613947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870B94-6F9C-4BAF-B115-C7CD2534737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6A54A-A132-416F-9AB3-669277E895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BDD52-4884-4D9E-947A-DE16F17DFC9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69D33-5DF6-4934-AFB0-9EBACC5D783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9F410-8259-48C7-B95C-DD15071577A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21C4B-E4C9-42C3-A365-5668696B0F1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418DC-4481-47DD-9943-201D51CF4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4ED-4D43-4CB0-8CE0-AA5099C4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F05B1-FACA-4E45-A246-39F405E2D93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8C79A-B244-4012-BE79-1A26757965C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DC3D7-AEE4-4C55-A8B3-DEE4181FF6A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1B7BE-1B15-47A2-B6B2-CAB1E91EC72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2AEF8-4053-4FB3-8CAA-DF92FBCA973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40ADF-60D1-4253-B6E3-FF39696DA74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627F0-A22F-4228-BCF0-7B085DC9681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E55ED-3DC1-4D03-9CA1-A3972C7B64D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7E61E-0514-4230-A868-CC8CC929DC6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F6B34-3F4C-4343-9C45-EE510840A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39A-1906-41F1-B026-239BA857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E0FFB-4B73-4210-8FDF-26A76B22B8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1E84-2CD2-4B91-8908-6D6D42E0CA2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0B11F-B669-4DD7-9C6D-B03E57FBF33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4327F-4797-471A-A246-8968A0FEDD0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C847-0D93-405A-BE1B-E182DEDB2C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4824-1D4A-4088-9EC5-F7FBB7ACEA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9FB0-D2F5-48B9-BFA8-6712521414B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9C518-CD5E-40AA-8671-B8E9B096F68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6622D-E2BD-4DB6-A016-C9A912865AC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FB1C-6A03-4818-9CF0-0287DA204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B78C6-76A4-44BC-A32E-D44607F0285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43AE7-8E6A-42D0-9E48-B66442D31A9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D3576-6ACB-46DE-96E0-A1D3538B461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FA6DA2-D180-45B5-B356-4E8E9262339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AF7FB9-EB2C-417F-A36B-9122033C357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193946-7259-41F8-B15E-92A1F7D88FA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28FDD5-3E12-4D91-AC73-095A44F9536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B5F27B-C69A-4D3B-B2BD-3B8E8D59F25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6D3A64-E7BD-4FBB-88B0-A8CAECF012B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C6473A-69EC-45FE-9D36-E6BE611243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1003DF-958E-4307-A569-726F53D7AC4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FE1454-6BAB-4D56-956B-85324BD3E76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A02D1C-FB73-4737-81C4-360CE9FD489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F1E6B-E19F-4C01-AC1C-29ADED21544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41DD2-1291-46CF-86D7-3071A550FA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ED500-E969-4362-A37B-4ADDDA233B9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4F33F-41C4-44CA-9B11-702550BB2B7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6ED2A-B293-451B-8DA2-777D550B229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3BA84-2773-450C-9043-88F637AEC32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94124-9211-4803-BE1E-81A525CB33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1C4EC-64A8-4620-AE8C-4ABB5BF9A46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C7B0B-C8E3-45A6-839F-12E5056A85B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BAB48-11AD-44D1-A0C9-2C2F833BF8C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069DC-3D1A-4BCE-B9F1-0F3029404F3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3EB57-7CC2-4BF5-A6D2-C0AB9B97C5B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A5690-A791-4DA6-A2AE-FA7B1C26E93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DBD2E-94C8-4481-8170-C25D6F47108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25E5-6D69-4F09-8714-24068FB2290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C32BE-8659-47ED-ACAD-DF3B3F72D0F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0315D-7438-4CBA-9547-B59880B5CD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CAC9B-D7D5-42A5-B6B5-8147E592D4B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A74EB-591D-40F4-A7E3-1452953ACDF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073CA-22BC-4F2D-8D57-A2B2FE4A5E0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5135C-54D0-41B9-9322-51589966BAC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E6033-9873-4FBC-BC8D-401D4BDA686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B8DB-4640-4CEC-BF42-2BB37791195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FFAB-209D-488B-86D2-4AD4CAF2058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0F4B4-0ABF-4F25-BA1D-0081C739B57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D669-5941-4204-A808-FCA9F5D5454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52EAD2-F89B-4410-8B8B-B82E8DF2B5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04E4F4-D062-41B6-B6A8-D85DAE077BA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A0DCED-293A-4636-AA42-202A52C6921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701EDC-D6B0-4DCB-BEF0-C6C2AB62E03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824F59-6E3E-4FC3-A9E4-33E65F355ED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374621-88DD-4871-AD52-C3D671A78B6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14B77A-28AA-474A-B38F-F3CC5C94506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CC9751-3AAC-433F-9B28-63839A742AF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EF9747-774E-41A8-8D13-9061938192E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3D28FA-16C5-4BF7-B595-B6D93933280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8780C4-FEE8-4F73-B254-E9F966A371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FB1E3A-91BE-42DC-88FB-31A981636D0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00829-9E2E-4AA9-A95F-85D1A4ADA88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A23D3-BBDE-4D8C-A489-5BDB8114CB7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7C10C-BB29-4631-BFF5-7F5D255E07E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D9A70-DE25-49AB-8B39-0DD925B9312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D395E-112F-4D88-8DBB-25A79A795D6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A417E-03BC-4151-B970-DE6912FD9C6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35951-BE69-47F0-B450-63CBCA2F245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45186-ED84-433F-9D6D-3FB8F3E3078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61E94-95D8-40DF-A220-1D08EC3C9D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0B915-10B7-4BD4-84A3-B65BD828D63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ACDB1-6A07-4DE4-99A1-A1825A2919C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FA807-78C5-45B2-AC82-7E6B3DCCAC0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5C4-2323-4EB4-9303-06563417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8F415-295A-4929-B8C5-22F085FF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44D29-43BE-472C-8602-7BEAE0C5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203383-27FA-43C2-9F78-94935753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ADAA8-921F-4E66-926C-B5C449BD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2D413-225B-4F8E-965A-EE0BE613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E66D7-DAF4-4581-A7C6-07B3C0C3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5FE33-B93F-4C92-AAEF-DE8AF640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03EF6B-0E96-4ABB-9045-4E646ADF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59F59-AEE7-45B7-9105-6C045058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CBED4-904A-4CA9-A0FD-98C34E1F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1D401-88E3-4D3D-976F-BBCC26E2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208FE-A088-41DA-B2E0-E913891F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77AFC-6EAA-4F23-81DE-167B204DB4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3311B-5E54-426A-BCEF-E7036751A4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FB00E-D3E4-4B1A-8EEB-CD43FE69EA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47014-1120-4349-B3D5-FF0A99A533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03188-62F7-43A9-B385-AECD5638B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97C-1655-4BD7-85F6-EF7E37EC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E13A7-FD22-43F6-8986-7150A4FE0F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5839B-F904-4E0D-A4FE-A2639BEEB8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FF44A-0ABA-4422-8F39-2837AA5EC8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AD9D0-A76D-4F75-B19C-8F504F04B8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F5D53-B96D-4433-8464-F61FED4413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E59B2-8A6A-4955-A9B5-7A7F09B5B7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A9B1F-77EE-4272-9541-0EB3B06E98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06261-A919-4F60-A053-2A37215C7D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56517-4397-4B60-A8E6-0A9DA05BF3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0C423-DE2E-4056-B982-B591AABE8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66A-0C99-40A9-9E1E-CE9DA1BE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84FBE-66BF-4F06-8BCF-DD7E4CF880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1317A-8AF8-4887-80F7-27A5822D96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AAC65-9942-4CC6-B199-8A4C347D88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8E2FE-9924-4CB4-81EE-1CF151C864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E640B-CB88-41CA-8051-23F5BFD1D8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ABE6A-4FC9-4496-AC37-EB94AF1DB8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8DB7D-74A3-449E-A355-EDCFB3D12A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1E382-E0E7-4D1A-A14C-3F3DDD9655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A1806-0C46-4297-8F97-1B1366CEBC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4602-3CA7-4CAB-A8A2-67E079743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BF8-BD53-4B9D-A973-B2DE6FC2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7574-4D4C-4933-A9F1-5AC79D3F472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4298-0A58-4E59-9EF9-E0087ACF4E1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EECE-A273-480A-8459-4BF973F281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A640-ECE4-42A7-A663-B3FC7D0B3C3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9604-0AB7-4F21-93FB-1E7C0ABD79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B44B-722A-4562-833E-85EA7903253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BA70-0736-4169-87BB-C43FE2876C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2284-52EA-4886-9A3D-E8A95D9386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AF07-019D-4BD9-AE83-FAF0263D87F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5D73-D18D-4D7F-B059-340FB5B70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52B-360E-4269-B183-E77C1301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2803-8CF8-4FD3-8AE3-CA736F7B1E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29489-C7C2-4323-BBED-3690AFD5519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E36F45-B634-410C-91D7-5012C4880F1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231FCA-D20D-4799-B17D-57E374080AF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63C7A-8990-4C66-837D-E332FF722E3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239D0E-8A97-47F3-816B-1091F4F9324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84CA3-3CF4-47F8-B685-43E934EEFA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C4E2C-0DBD-44E9-B606-7BF82BF875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D63757-1434-4DDE-8E59-9027FB0355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99DA8-19F3-4702-AB55-DB031D5E6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192-BB7F-4BE0-B7D5-C8DB0A0E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6D01D-5851-4A8A-959F-FE62D13623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0E967-7210-4187-AF0B-F096C224ECC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204F04-2CA2-49FF-8900-127186F0A7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360AB-4895-41F3-A2C7-E59638F14CA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06503-046A-45F7-BA08-38B4CEC8AFF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FF0A9-F4D1-4FD6-B203-94A59D6F99D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5F087-1095-4D5E-9906-BC7D88D69F3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23FED-AEE8-4132-802E-C81E62FF61D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95BC8-8546-4B4A-88C0-1B3BC070769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9C464-CB9A-4B57-BB2A-93FD31013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2A8-E979-478F-A45D-5BC3C362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D8AE2-FAE6-4461-BA43-CFED996CF0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C51E2-3A0F-4650-AF76-1DC31A5C80E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0E9EB-D96C-4A72-9FFB-EB9BE8BD5E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87943-C24C-4234-BFD5-32E6569861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15655-D9EA-4061-8A62-F43A51AEAC7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708E-DDE6-48A8-82A6-82E8A535356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A5BD-FE9A-475F-B94A-67A72F23825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D52D-DEEE-46E0-B34B-6E8FCEE2FB5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8A94-935E-4377-AB9D-AB6545B9E3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80E2-D622-43BF-86A9-0AA236DCF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4AC-D285-4F03-92C5-3A71321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BD4C-C213-4FAD-A374-5AF7044375F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C683-6F35-495D-BAA2-DF0D60B8462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3EF5A-5545-494D-8EC8-F35167B0593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9908-9A33-429F-B552-F21B216082E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2481-5716-45F1-B46B-7CEEBC2A1B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4FDC-BA52-471A-BD7C-9EA23837E90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9A0D-D3BB-423E-8AB2-8E106767257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E188B-8B74-4C59-BE79-CCC892707AB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F5856-1560-422A-952B-8B4A810D508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A3877-4938-46C2-8614-12D5BCD47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AA7E8B-68B0-4849-820A-AAE23F426EC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0A077C-3A5D-4180-8C08-B1415068A8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774DAB-E516-4527-A3EC-9D4810D8F50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BC0EF13-E5C5-4D79-AE5A-F15A8F9C926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BD77F6-D3B6-4254-91F8-12CFC3A3F78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A948A8-9589-42AC-9417-5F772F8EE92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CA08B9-9B22-4DD4-9379-362B58B08AE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6643E3-D21E-4E69-92C2-2618F9EA62E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41F32B-579D-4EF1-8756-741D323A5A8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DA0710-3BEA-4EAC-B536-3089EBFD21F4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E8A632-C25B-484B-9FD1-3A1236DC8BB6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B1F714-388D-4CF9-92DF-33D069D003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03777C-9C19-4B13-89EA-7DB136328D6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73A432-9644-47F4-B492-FAE6E11FED3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20A663-D747-45D6-80C1-0585188CDF3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D4BF49-EE89-4C05-B70C-08A1A9E45BE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AE8A4D-2812-4AE8-98CE-D2ACFCCE71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B03127-D2D3-4457-8710-0DBA9569CD8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41640" y="612360"/>
            <a:ext cx="6316560" cy="163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Projektu pieteikumu aizpildīšanas seminārs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Nordplus  Pieaugušo izglītības projektu iesniedzējiem</a:t>
            </a:r>
            <a:br>
              <a:rPr sz="23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29960" y="2887560"/>
            <a:ext cx="765324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2060"/>
                </a:solidFill>
                <a:latin typeface="Verdana"/>
                <a:ea typeface="Verdana"/>
              </a:rPr>
              <a:t>Projekt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15.janvā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3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  <p:sp>
        <p:nvSpPr>
          <p:cNvPr id="816" name="Title 1"/>
          <p:cNvSpPr/>
          <p:nvPr/>
        </p:nvSpPr>
        <p:spPr>
          <a:xfrm>
            <a:off x="0" y="2984400"/>
            <a:ext cx="2590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varīgi! Pārdomājam, ar kādu e-pasta adresi reģistrēsimies!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820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"/>
          <p:cNvPicPr/>
          <p:nvPr/>
        </p:nvPicPr>
        <p:blipFill>
          <a:blip r:embed="rId2"/>
          <a:srcRect l="0" t="0" r="0" b="4418"/>
          <a:stretch/>
        </p:blipFill>
        <p:spPr>
          <a:xfrm>
            <a:off x="2741760" y="1457280"/>
            <a:ext cx="5719680" cy="4746600"/>
          </a:xfrm>
          <a:prstGeom prst="rect">
            <a:avLst/>
          </a:prstGeom>
          <a:ln w="0">
            <a:noFill/>
          </a:ln>
        </p:spPr>
      </p:pic>
      <p:sp>
        <p:nvSpPr>
          <p:cNvPr id="824" name="Title 1"/>
          <p:cNvSpPr/>
          <p:nvPr/>
        </p:nvSpPr>
        <p:spPr>
          <a:xfrm>
            <a:off x="0" y="285120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Straight Arrow Connector 9"/>
          <p:cNvCxnSpPr/>
          <p:nvPr/>
        </p:nvCxnSpPr>
        <p:spPr>
          <a:xfrm>
            <a:off x="2141280" y="3171600"/>
            <a:ext cx="6008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2479680" y="1504800"/>
            <a:ext cx="6458040" cy="50072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42920"/>
            <a:ext cx="2209680" cy="23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aram dot iespēju kolēģiem no mūsu un partneru  organizācijām lasīt, vai papildināt un rediģēt tek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Straight Arrow Connector 8"/>
          <p:cNvCxnSpPr/>
          <p:nvPr/>
        </p:nvCxnSpPr>
        <p:spPr>
          <a:xfrm>
            <a:off x="1569600" y="4199040"/>
            <a:ext cx="3002760" cy="8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29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5148360" y="3705120"/>
            <a:ext cx="3848040" cy="2048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" descr=""/>
          <p:cNvPicPr/>
          <p:nvPr/>
        </p:nvPicPr>
        <p:blipFill>
          <a:blip r:embed="rId2"/>
          <a:srcRect l="2692" t="0" r="3629" b="0"/>
          <a:stretch/>
        </p:blipFill>
        <p:spPr>
          <a:xfrm>
            <a:off x="77760" y="2251080"/>
            <a:ext cx="9163080" cy="1197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Ievadītā teksta saglab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34" name="Title 1"/>
          <p:cNvSpPr/>
          <p:nvPr/>
        </p:nvSpPr>
        <p:spPr>
          <a:xfrm>
            <a:off x="463680" y="4189320"/>
            <a:ext cx="2590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Vienmēr nospiežam pēc informācijas ievadīš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Straight Arrow Connector 9"/>
          <p:cNvCxnSpPr/>
          <p:nvPr/>
        </p:nvCxnSpPr>
        <p:spPr>
          <a:xfrm flipV="1">
            <a:off x="3446280" y="3958920"/>
            <a:ext cx="1867320" cy="1348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6" name="Title 1"/>
          <p:cNvSpPr/>
          <p:nvPr/>
        </p:nvSpPr>
        <p:spPr>
          <a:xfrm>
            <a:off x="2165400" y="530712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Nekad nespiežam “Back” veidlapas aizpildīšanas gaitā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Straight Arrow Connector 12"/>
          <p:cNvCxnSpPr/>
          <p:nvPr/>
        </p:nvCxnSpPr>
        <p:spPr>
          <a:xfrm flipV="1">
            <a:off x="1874880" y="2763360"/>
            <a:ext cx="1650240" cy="142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533760" y="1017720"/>
            <a:ext cx="5610240" cy="584028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 partneru organizācijām Nordplus datubāzē (ja tās vēl nav reģistrētas datu bāzē!)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isām iesistītajām organizācijām sistēma ģenerē apliecinājuma vēstules,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Straight Arrow Connector 10"/>
          <p:cNvCxnSpPr/>
          <p:nvPr/>
        </p:nvCxnSpPr>
        <p:spPr>
          <a:xfrm flipV="1">
            <a:off x="3098520" y="2094840"/>
            <a:ext cx="3005640" cy="9975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1" name="Straight Arrow Connector 12"/>
          <p:cNvCxnSpPr/>
          <p:nvPr/>
        </p:nvCxnSpPr>
        <p:spPr>
          <a:xfrm flipV="1">
            <a:off x="2819160" y="2095200"/>
            <a:ext cx="5329800" cy="159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3510000" y="315756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151200" y="1666440"/>
            <a:ext cx="3660840" cy="267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pati lieto.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 Pēc partneru datu ievadīšanas sistēma ģenerē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partneru apliecinājuma vēstules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, kuras jāizdrukā, jāparaksta, jāieskanē un jāpievieno projekta pieteikumem (skat. 6. sadaļu)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6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847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7" descr=""/>
          <p:cNvPicPr/>
          <p:nvPr/>
        </p:nvPicPr>
        <p:blipFill>
          <a:blip r:embed="rId1"/>
          <a:stretch/>
        </p:blipFill>
        <p:spPr>
          <a:xfrm>
            <a:off x="2359080" y="1227240"/>
            <a:ext cx="6784920" cy="5186160"/>
          </a:xfrm>
          <a:prstGeom prst="rect">
            <a:avLst/>
          </a:prstGeom>
          <a:ln w="0">
            <a:noFill/>
          </a:ln>
        </p:spPr>
      </p:pic>
      <p:cxnSp>
        <p:nvCxnSpPr>
          <p:cNvPr id="849" name="Straight Arrow Connector 9"/>
          <p:cNvCxnSpPr/>
          <p:nvPr/>
        </p:nvCxnSpPr>
        <p:spPr>
          <a:xfrm>
            <a:off x="1600200" y="3633840"/>
            <a:ext cx="953280" cy="1192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0" name="Title 1"/>
          <p:cNvSpPr/>
          <p:nvPr/>
        </p:nvSpPr>
        <p:spPr>
          <a:xfrm>
            <a:off x="-9360" y="2770200"/>
            <a:ext cx="256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zvēlētie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tikai vie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rojekta veid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ttiecīgi – ja vēlamies gan mobilitātes, gan sadarbības projektu, jāiesniedz vairāki projekta pieteik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657760" y="4826160"/>
            <a:ext cx="3268800" cy="63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Šai sadaļai jārada skaidrs priekšstats par projekta ieceri un nepieciešam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Straight Arrow Connector 11"/>
          <p:cNvCxnSpPr/>
          <p:nvPr/>
        </p:nvCxnSpPr>
        <p:spPr>
          <a:xfrm flipH="1">
            <a:off x="3180600" y="5092200"/>
            <a:ext cx="2826360" cy="483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53" name="Straight Arrow Connector 6"/>
          <p:cNvCxnSpPr/>
          <p:nvPr/>
        </p:nvCxnSpPr>
        <p:spPr>
          <a:xfrm flipH="1">
            <a:off x="2831760" y="786960"/>
            <a:ext cx="2248560" cy="4039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4" name="Title 1"/>
          <p:cNvSpPr/>
          <p:nvPr/>
        </p:nvSpPr>
        <p:spPr>
          <a:xfrm>
            <a:off x="5079960" y="0"/>
            <a:ext cx="358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esniegt arī pieteikumu sagatavošanas vizītei, lai sagatavotu projektu 2022. gada projektu konkurs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9" descr=""/>
          <p:cNvPicPr/>
          <p:nvPr/>
        </p:nvPicPr>
        <p:blipFill>
          <a:blip r:embed="rId1"/>
          <a:stretch/>
        </p:blipFill>
        <p:spPr>
          <a:xfrm>
            <a:off x="2928960" y="636480"/>
            <a:ext cx="5967360" cy="6221520"/>
          </a:xfrm>
          <a:prstGeom prst="rect">
            <a:avLst/>
          </a:prstGeom>
          <a:ln w="0">
            <a:noFill/>
          </a:ln>
        </p:spPr>
      </p:pic>
      <p:sp>
        <p:nvSpPr>
          <p:cNvPr id="856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-42840" y="2500200"/>
            <a:ext cx="21081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Visiem aprakstiem jābūt izsmeļošiem, taču iespējami koncentrēti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30480" y="690480"/>
            <a:ext cx="5689800" cy="5897520"/>
          </a:xfrm>
          <a:prstGeom prst="rect">
            <a:avLst/>
          </a:prstGeom>
          <a:ln w="0">
            <a:noFill/>
          </a:ln>
        </p:spPr>
      </p:pic>
      <p:sp>
        <p:nvSpPr>
          <p:cNvPr id="859" name="Title 1"/>
          <p:cNvSpPr/>
          <p:nvPr/>
        </p:nvSpPr>
        <p:spPr>
          <a:xfrm>
            <a:off x="0" y="3854520"/>
            <a:ext cx="25858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Jānorāda iepriekšējie Nordplus projekti, kā arī citi Nordplus projektu iesniegumi šim konkursam (ja tādi ir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Straight Arrow Connector 8"/>
          <p:cNvCxnSpPr/>
          <p:nvPr/>
        </p:nvCxnSpPr>
        <p:spPr>
          <a:xfrm>
            <a:off x="2585520" y="48304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72880" y="374760"/>
            <a:ext cx="6442200" cy="76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 </a:t>
            </a:r>
            <a:r>
              <a:rPr b="1" lang="nb-NO" sz="32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2021. gada projektu konkur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692440" y="1141560"/>
            <a:ext cx="6184800" cy="523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31859c"/>
                </a:solidFill>
                <a:latin typeface="Calibri"/>
              </a:rPr>
              <a:t>2020.gada 1. novembrī</a:t>
            </a:r>
            <a:r>
              <a:rPr b="1" lang="lv-LV" sz="2600" spc="-1" strike="noStrike">
                <a:solidFill>
                  <a:srgbClr val="002060"/>
                </a:solidFill>
                <a:latin typeface="Calibri"/>
              </a:rPr>
              <a:t> izsludināts ikgadējais Nordplus projektu konkurss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</a:rPr>
              <a:t>https://www.nordplusonline.org/calls/call-for-applications-round-1-february-2021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Projektu pieteikumu iesniegšanas termiņš</a:t>
            </a:r>
            <a:r>
              <a:rPr b="1" lang="lv-LV" sz="2600" spc="-1" strike="noStrike">
                <a:solidFill>
                  <a:srgbClr val="ff0000"/>
                </a:solidFill>
                <a:latin typeface="Calibri"/>
              </a:rPr>
              <a:t> - 2021. gada  1. februāris </a:t>
            </a: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(plkst. 23:59 pēc Norvēģijas laik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46160" y="2209680"/>
            <a:ext cx="2628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294000" y="0"/>
            <a:ext cx="5667480" cy="5745240"/>
          </a:xfrm>
          <a:prstGeom prst="rect">
            <a:avLst/>
          </a:prstGeom>
          <a:ln w="0">
            <a:noFill/>
          </a:ln>
        </p:spPr>
      </p:pic>
      <p:sp>
        <p:nvSpPr>
          <p:cNvPr id="862" name="Title 1"/>
          <p:cNvSpPr/>
          <p:nvPr/>
        </p:nvSpPr>
        <p:spPr>
          <a:xfrm>
            <a:off x="250920" y="1866960"/>
            <a:ext cx="25858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tvert to, kas attiecas uz pieaugušo izglīt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Straight Arrow Connector 8"/>
          <p:cNvCxnSpPr/>
          <p:nvPr/>
        </p:nvCxnSpPr>
        <p:spPr>
          <a:xfrm>
            <a:off x="2982960" y="3733560"/>
            <a:ext cx="621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4" name="TextBox 7"/>
          <p:cNvSpPr/>
          <p:nvPr/>
        </p:nvSpPr>
        <p:spPr>
          <a:xfrm>
            <a:off x="0" y="3071880"/>
            <a:ext cx="314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Iespējami konkrēti jānorāda partnera uzdevumi, komunikāciju kanāli (Skype, ZOOM...) un regularitā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55440" y="4307040"/>
            <a:ext cx="27813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Šī ir ļoti būtiska sadaļa – jāparāda paredzamā projekta ietekme uz partneru organizācijām. Kā projekta aktivitātes ir saistītas ar pieaugušo izglītotājaikdie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darbu? Jāapraksta rezultātu ilgtspē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Straight Arrow Connector 11"/>
          <p:cNvCxnSpPr/>
          <p:nvPr/>
        </p:nvCxnSpPr>
        <p:spPr>
          <a:xfrm>
            <a:off x="2673360" y="2552400"/>
            <a:ext cx="9309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67" name="Straight Arrow Connector 13"/>
          <p:cNvCxnSpPr/>
          <p:nvPr/>
        </p:nvCxnSpPr>
        <p:spPr>
          <a:xfrm>
            <a:off x="2825280" y="52732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2903400" y="0"/>
            <a:ext cx="5639040" cy="5992920"/>
          </a:xfrm>
          <a:prstGeom prst="rect">
            <a:avLst/>
          </a:prstGeom>
          <a:ln w="0">
            <a:noFill/>
          </a:ln>
        </p:spPr>
      </p:pic>
      <p:sp>
        <p:nvSpPr>
          <p:cNvPr id="869" name="TextBox 7"/>
          <p:cNvSpPr/>
          <p:nvPr/>
        </p:nvSpPr>
        <p:spPr>
          <a:xfrm>
            <a:off x="297000" y="2176560"/>
            <a:ext cx="24382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Jāsniedz detalizēts paredzamo rezultātu apraks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pējami konkrēti jānorāda informācijas izplatīšanas kanāli (weblapas, plašsaziņas līdzekļi, iespējamie pasākumi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Reālistiski novērtēšanas pasāku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98440" y="498600"/>
            <a:ext cx="8545680" cy="5257800"/>
          </a:xfrm>
          <a:prstGeom prst="rect">
            <a:avLst/>
          </a:prstGeom>
          <a:ln w="0">
            <a:noFill/>
          </a:ln>
        </p:spPr>
      </p:pic>
      <p:sp>
        <p:nvSpPr>
          <p:cNvPr id="871" name="Left Arrow 3"/>
          <p:cNvSpPr/>
          <p:nvPr/>
        </p:nvSpPr>
        <p:spPr>
          <a:xfrm rot="2480400">
            <a:off x="831600" y="3328560"/>
            <a:ext cx="1008000" cy="355680"/>
          </a:xfrm>
          <a:prstGeom prst="leftArrow">
            <a:avLst>
              <a:gd name="adj1" fmla="val 50000"/>
              <a:gd name="adj2" fmla="val 5447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417600" y="1774800"/>
            <a:ext cx="8421480" cy="4172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602240" y="2873520"/>
            <a:ext cx="365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Katram braucienam aizpildām pieprasīto informāciju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5" descr=""/>
          <p:cNvPicPr/>
          <p:nvPr/>
        </p:nvPicPr>
        <p:blipFill>
          <a:blip r:embed="rId1"/>
          <a:srcRect l="0" t="0" r="0" b="13698"/>
          <a:stretch/>
        </p:blipFill>
        <p:spPr>
          <a:xfrm>
            <a:off x="0" y="-166680"/>
            <a:ext cx="8056440" cy="3284640"/>
          </a:xfrm>
          <a:prstGeom prst="rect">
            <a:avLst/>
          </a:prstGeom>
          <a:ln w="0">
            <a:noFill/>
          </a:ln>
        </p:spPr>
      </p:pic>
      <p:sp>
        <p:nvSpPr>
          <p:cNvPr id="877" name="TextBox 8"/>
          <p:cNvSpPr/>
          <p:nvPr/>
        </p:nvSpPr>
        <p:spPr>
          <a:xfrm>
            <a:off x="312840" y="3117960"/>
            <a:ext cx="4941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Aizpildot mobilitāšu tabulu, atbilstošais budžets aizpildās automātiski, saskaņā ar Nordplus likmēm (skat. Roksagrāmatu 2021, 48.-52.lp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Picture 6" descr=""/>
          <p:cNvPicPr/>
          <p:nvPr/>
        </p:nvPicPr>
        <p:blipFill>
          <a:blip r:embed="rId2"/>
          <a:srcRect l="0" t="13611" r="0" b="0"/>
          <a:stretch/>
        </p:blipFill>
        <p:spPr>
          <a:xfrm>
            <a:off x="0" y="4410000"/>
            <a:ext cx="7710480" cy="2632320"/>
          </a:xfrm>
          <a:prstGeom prst="rect">
            <a:avLst/>
          </a:prstGeom>
          <a:ln w="0">
            <a:noFill/>
          </a:ln>
        </p:spPr>
      </p:pic>
      <p:cxnSp>
        <p:nvCxnSpPr>
          <p:cNvPr id="879" name="Straight Arrow Connector 7"/>
          <p:cNvCxnSpPr/>
          <p:nvPr/>
        </p:nvCxnSpPr>
        <p:spPr>
          <a:xfrm flipV="1">
            <a:off x="5277960" y="2928600"/>
            <a:ext cx="1321200" cy="58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0" name="Straight Arrow Connector 9"/>
          <p:cNvCxnSpPr>
            <a:stCxn id="877" idx="3"/>
          </p:cNvCxnSpPr>
          <p:nvPr/>
        </p:nvCxnSpPr>
        <p:spPr>
          <a:xfrm>
            <a:off x="5254200" y="3687480"/>
            <a:ext cx="2026440" cy="2794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sadarbība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1"/>
          <a:stretch/>
        </p:blipFill>
        <p:spPr>
          <a:xfrm>
            <a:off x="6600960" y="652320"/>
            <a:ext cx="2543040" cy="11620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7"/>
          <p:cNvSpPr/>
          <p:nvPr/>
        </p:nvSpPr>
        <p:spPr>
          <a:xfrm>
            <a:off x="2131920" y="124128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Ja atzīmējam 3. sadaļā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Straight Arrow Connector 9"/>
          <p:cNvCxnSpPr/>
          <p:nvPr/>
        </p:nvCxnSpPr>
        <p:spPr>
          <a:xfrm flipV="1">
            <a:off x="5279760" y="1571400"/>
            <a:ext cx="13212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885" name="Picture 8" descr=""/>
          <p:cNvPicPr/>
          <p:nvPr/>
        </p:nvPicPr>
        <p:blipFill>
          <a:blip r:embed="rId2"/>
          <a:srcRect l="0" t="0" r="36436" b="5190"/>
          <a:stretch/>
        </p:blipFill>
        <p:spPr>
          <a:xfrm>
            <a:off x="4707000" y="2309760"/>
            <a:ext cx="4437000" cy="4548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7"/>
          <p:cNvSpPr/>
          <p:nvPr/>
        </p:nvSpPr>
        <p:spPr>
          <a:xfrm>
            <a:off x="0" y="2784600"/>
            <a:ext cx="3182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 4.1. nedaudz atšķir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Par sadarbības projektu veidiem  (</a:t>
            </a:r>
            <a:r>
              <a:rPr b="0" i="1" lang="lv-LV" sz="1600" spc="-1" strike="noStrike">
                <a:solidFill>
                  <a:srgbClr val="002060"/>
                </a:solidFill>
                <a:latin typeface="Verdana"/>
              </a:rPr>
              <a:t>Thematic network, development, mapping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) – skat. Rokasgrāmatu, 46. – 48. l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s 4.2. un 4.3. ir tādas pašas, kā mobilitātes projekta gadījumā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Straight Arrow Connector 15"/>
          <p:cNvCxnSpPr/>
          <p:nvPr/>
        </p:nvCxnSpPr>
        <p:spPr>
          <a:xfrm flipV="1">
            <a:off x="3182400" y="4553640"/>
            <a:ext cx="1321200" cy="9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10" descr=""/>
          <p:cNvPicPr/>
          <p:nvPr/>
        </p:nvPicPr>
        <p:blipFill>
          <a:blip r:embed="rId1"/>
          <a:srcRect l="0" t="0" r="25043" b="7409"/>
          <a:stretch/>
        </p:blipFill>
        <p:spPr>
          <a:xfrm>
            <a:off x="3711600" y="3089160"/>
            <a:ext cx="5424480" cy="37688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" descr=""/>
          <p:cNvPicPr/>
          <p:nvPr/>
        </p:nvPicPr>
        <p:blipFill>
          <a:blip r:embed="rId2"/>
          <a:stretch/>
        </p:blipFill>
        <p:spPr>
          <a:xfrm>
            <a:off x="2332080" y="982800"/>
            <a:ext cx="6202440" cy="1981080"/>
          </a:xfrm>
          <a:prstGeom prst="rect">
            <a:avLst/>
          </a:prstGeom>
          <a:ln w="0">
            <a:noFill/>
          </a:ln>
        </p:spPr>
      </p:pic>
      <p:sp>
        <p:nvSpPr>
          <p:cNvPr id="890" name="Title 1"/>
          <p:cNvSpPr/>
          <p:nvPr/>
        </p:nvSpPr>
        <p:spPr>
          <a:xfrm>
            <a:off x="1657440" y="289080"/>
            <a:ext cx="7478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Sadarbības projekta vai tīkla gadījumā jāaizpilda atsevišķa (MS Excel) 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Straight Arrow Connector 10"/>
          <p:cNvCxnSpPr/>
          <p:nvPr/>
        </p:nvCxnSpPr>
        <p:spPr>
          <a:xfrm>
            <a:off x="5206680" y="1506240"/>
            <a:ext cx="1080" cy="1786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2" name="Title 1"/>
          <p:cNvSpPr/>
          <p:nvPr/>
        </p:nvSpPr>
        <p:spPr>
          <a:xfrm>
            <a:off x="0" y="3451320"/>
            <a:ext cx="25621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! MS Excel 2007 un vecākas vesrijas neatbalsta dažas budžeta veidlapas funkcija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Straight Arrow Connector 16"/>
          <p:cNvCxnSpPr/>
          <p:nvPr/>
        </p:nvCxnSpPr>
        <p:spPr>
          <a:xfrm>
            <a:off x="2314440" y="4317480"/>
            <a:ext cx="6220800" cy="878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itle 1"/>
          <p:cNvSpPr/>
          <p:nvPr/>
        </p:nvSpPr>
        <p:spPr>
          <a:xfrm>
            <a:off x="0" y="1587600"/>
            <a:ext cx="381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utomatiski tiek aprēķinātas admin. izmak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icture 6" descr=""/>
          <p:cNvPicPr/>
          <p:nvPr/>
        </p:nvPicPr>
        <p:blipFill>
          <a:blip r:embed="rId1"/>
          <a:stretch/>
        </p:blipFill>
        <p:spPr>
          <a:xfrm>
            <a:off x="4349880" y="1130400"/>
            <a:ext cx="4151160" cy="3200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7" descr=""/>
          <p:cNvPicPr/>
          <p:nvPr/>
        </p:nvPicPr>
        <p:blipFill>
          <a:blip r:embed="rId2"/>
          <a:stretch/>
        </p:blipFill>
        <p:spPr>
          <a:xfrm>
            <a:off x="826920" y="4572000"/>
            <a:ext cx="8317080" cy="2286000"/>
          </a:xfrm>
          <a:prstGeom prst="rect">
            <a:avLst/>
          </a:prstGeom>
          <a:ln w="0">
            <a:noFill/>
          </a:ln>
        </p:spPr>
      </p:pic>
      <p:sp>
        <p:nvSpPr>
          <p:cNvPr id="898" name="Title 1"/>
          <p:cNvSpPr/>
          <p:nvPr/>
        </p:nvSpPr>
        <p:spPr>
          <a:xfrm>
            <a:off x="246240" y="2476440"/>
            <a:ext cx="38113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Darba dienu apmaksas aprēķins tiek veikts automātiski pēc dalībvalsts un darba dienu skaita ievadīšana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saskaņā ar Nordplus PI likmēm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Rokasgrāmata, 51.l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Straight Arrow Connector 9"/>
          <p:cNvCxnSpPr/>
          <p:nvPr/>
        </p:nvCxnSpPr>
        <p:spPr>
          <a:xfrm>
            <a:off x="3187440" y="2044440"/>
            <a:ext cx="422964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0" name="Straight Arrow Connector 12"/>
          <p:cNvCxnSpPr/>
          <p:nvPr/>
        </p:nvCxnSpPr>
        <p:spPr>
          <a:xfrm>
            <a:off x="3811320" y="3708360"/>
            <a:ext cx="4849920" cy="14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itle 1"/>
          <p:cNvSpPr/>
          <p:nvPr/>
        </p:nvSpPr>
        <p:spPr>
          <a:xfrm>
            <a:off x="804960" y="4894200"/>
            <a:ext cx="38113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visas informācijas ievadīšanas Excel veidlapa automātiski aprēķina kopējo budžetu. Tas jāieraksta Espresso budžeta sadaļ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244440" y="149400"/>
            <a:ext cx="8744040" cy="2263680"/>
          </a:xfrm>
          <a:prstGeom prst="rect">
            <a:avLst/>
          </a:prstGeom>
          <a:ln w="0">
            <a:noFill/>
          </a:ln>
        </p:spPr>
      </p:pic>
      <p:sp>
        <p:nvSpPr>
          <p:cNvPr id="903" name="Title 1"/>
          <p:cNvSpPr/>
          <p:nvPr/>
        </p:nvSpPr>
        <p:spPr>
          <a:xfrm>
            <a:off x="804960" y="2755800"/>
            <a:ext cx="3811320" cy="12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apmeklējamās valsts, pasākuma veida un braucēju skaita ievadīšanas tiek automātiski aprēķināts starptautisko braucienu budže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Straight Arrow Connector 9"/>
          <p:cNvCxnSpPr/>
          <p:nvPr/>
        </p:nvCxnSpPr>
        <p:spPr>
          <a:xfrm flipV="1">
            <a:off x="4349880" y="672840"/>
            <a:ext cx="4388040" cy="240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05" name="Picture 3" descr=""/>
          <p:cNvPicPr/>
          <p:nvPr/>
        </p:nvPicPr>
        <p:blipFill>
          <a:blip r:embed="rId2"/>
          <a:stretch/>
        </p:blipFill>
        <p:spPr>
          <a:xfrm>
            <a:off x="4616280" y="3254400"/>
            <a:ext cx="452772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6" name="Straight Arrow Connector 14"/>
          <p:cNvCxnSpPr/>
          <p:nvPr/>
        </p:nvCxnSpPr>
        <p:spPr>
          <a:xfrm flipV="1">
            <a:off x="3841920" y="3796560"/>
            <a:ext cx="4629600" cy="1097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1"/>
          <a:stretch/>
        </p:blipFill>
        <p:spPr>
          <a:xfrm>
            <a:off x="719280" y="961920"/>
            <a:ext cx="8421480" cy="5181840"/>
          </a:xfrm>
          <a:prstGeom prst="rect">
            <a:avLst/>
          </a:prstGeom>
          <a:ln w="0">
            <a:noFill/>
          </a:ln>
        </p:spPr>
      </p:pic>
      <p:sp>
        <p:nvSpPr>
          <p:cNvPr id="908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ankas rekviz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itle 1"/>
          <p:cNvSpPr/>
          <p:nvPr/>
        </p:nvSpPr>
        <p:spPr>
          <a:xfrm>
            <a:off x="4664160" y="2163600"/>
            <a:ext cx="32065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a projektu atbalstīs, grantu pārskaitīs uz šo ko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Konts var būt jebkurā bank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itle 1"/>
          <p:cNvSpPr/>
          <p:nvPr/>
        </p:nvSpPr>
        <p:spPr>
          <a:xfrm>
            <a:off x="4930920" y="5719680"/>
            <a:ext cx="320652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rganizācijas iekšējais identifikators (ja tādu finanšu vadības sistēma izma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Straight Arrow Connector 11"/>
          <p:cNvCxnSpPr/>
          <p:nvPr/>
        </p:nvCxnSpPr>
        <p:spPr>
          <a:xfrm flipH="1" flipV="1">
            <a:off x="1866600" y="5380920"/>
            <a:ext cx="345816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7" descr=""/>
          <p:cNvPicPr/>
          <p:nvPr/>
        </p:nvPicPr>
        <p:blipFill>
          <a:blip r:embed="rId1"/>
          <a:stretch/>
        </p:blipFill>
        <p:spPr>
          <a:xfrm>
            <a:off x="3243240" y="3103560"/>
            <a:ext cx="5619600" cy="370512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Nordplus video materiāli</a:t>
            </a:r>
            <a:br>
              <a:rPr sz="2000"/>
            </a:b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Espresso sistēmas lietošanas instrukcija Nordplus Jauniešu programma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7920" y="2049480"/>
            <a:ext cx="8408880" cy="105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https://viaa.gov.lv/lat/nordplus/nordplus_informativie_izdevumi/#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itle 1"/>
          <p:cNvSpPr/>
          <p:nvPr/>
        </p:nvSpPr>
        <p:spPr>
          <a:xfrm>
            <a:off x="-266760" y="3743280"/>
            <a:ext cx="2590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Aicinā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noskatī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"/>
          <p:cNvCxnSpPr/>
          <p:nvPr/>
        </p:nvCxnSpPr>
        <p:spPr>
          <a:xfrm>
            <a:off x="1758960" y="4188960"/>
            <a:ext cx="1645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6" descr=""/>
          <p:cNvPicPr/>
          <p:nvPr/>
        </p:nvPicPr>
        <p:blipFill>
          <a:blip r:embed="rId1"/>
          <a:stretch/>
        </p:blipFill>
        <p:spPr>
          <a:xfrm>
            <a:off x="2289240" y="971640"/>
            <a:ext cx="6245280" cy="241920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4DA9FF-7701-4A14-A627-49A499BD4FA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0080" y="2928960"/>
            <a:ext cx="22320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</a:rPr>
              <a:t>Obligāti jāpievieno budžets un parakstītas visu partneru un koordinatora  apliecinājuma vēstu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Straight Arrow Connector 6"/>
          <p:cNvCxnSpPr/>
          <p:nvPr/>
        </p:nvCxnSpPr>
        <p:spPr>
          <a:xfrm flipV="1">
            <a:off x="2371320" y="2928600"/>
            <a:ext cx="2823480" cy="198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jāpārbauda vai ir pievienoti visi pielikumi ut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Sistēma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5"/>
          <p:cNvCxnSpPr/>
          <p:nvPr/>
        </p:nvCxnSpPr>
        <p:spPr>
          <a:xfrm>
            <a:off x="2025360" y="4282920"/>
            <a:ext cx="1873800" cy="96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918" name="Picture 6" descr=""/>
          <p:cNvPicPr/>
          <p:nvPr/>
        </p:nvPicPr>
        <p:blipFill>
          <a:blip r:embed="rId1"/>
          <a:stretch/>
        </p:blipFill>
        <p:spPr>
          <a:xfrm>
            <a:off x="2911320" y="468360"/>
            <a:ext cx="5408640" cy="33973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7" descr=""/>
          <p:cNvPicPr/>
          <p:nvPr/>
        </p:nvPicPr>
        <p:blipFill>
          <a:blip r:embed="rId2"/>
          <a:stretch/>
        </p:blipFill>
        <p:spPr>
          <a:xfrm>
            <a:off x="4052880" y="3686040"/>
            <a:ext cx="50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076400" y="1844640"/>
          <a:ext cx="7453080" cy="4383000"/>
        </p:xfrm>
        <a:graphic>
          <a:graphicData uri="http://schemas.openxmlformats.org/drawingml/2006/table">
            <a:tbl>
              <a:tblPr/>
              <a:tblGrid>
                <a:gridCol w="590400"/>
                <a:gridCol w="5580000"/>
                <a:gridCol w="1282680"/>
              </a:tblGrid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overall Nordplus objectiv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general framework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Nordplus Adult and its act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involve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is the projected targeted a specified group of adult learners or/and educators and staff engaged in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aims of the project and the approach chosen to achieve them are clear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planned activities are relevant for the project in question and cover the whole project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Budget is well described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78040" y="1273320"/>
          <a:ext cx="7159680" cy="4898880"/>
        </p:xfrm>
        <a:graphic>
          <a:graphicData uri="http://schemas.openxmlformats.org/drawingml/2006/table">
            <a:tbl>
              <a:tblPr/>
              <a:tblGrid>
                <a:gridCol w="566640"/>
                <a:gridCol w="5359320"/>
                <a:gridCol w="1233720"/>
              </a:tblGrid>
              <a:tr h="22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lear and realistic overall plan for implementing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n appropriate balance between the roles and tasks of the different participants in terms of their involvement in the activities to be carried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Measures have been planned to ensure effective communication and cooperation between the participating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expected impact and benefits of the project on participating institutions and individual participants are clear and well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descriptions of expected results on different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Depending on activity and sub-programme, there is a plan for spreading positive results from the cooperation through websites or publications through appropriate channels, to whom and w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ommon project website (can be part of partner institution websi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plans for how to exploit the results among the participating institutions on a long-term b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Dissemination and utilisation of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Total number of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Semināra mērķ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804680" y="1252440"/>
            <a:ext cx="7078680" cy="3805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Pievērst projektu sagatavotāju uzmanību būtiskākajiem tehniskajiem un  saturiskajiem jautājumiem projekta pieteikuma sagatavošanas un iesniegšanas procesā Nordplus elektroniskajā sistēmā Espresso https://espresso.diku.no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Uzsvari prezentācijā balstās uz novērojumiem 2020.gada projektu pieteikumu izvērtēšanas procesā, kā arī uz iepriekš saņemtajiem projektu iesniedzēju jautājumiem 2019. un 2020. gad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rcRect l="0" t="0" r="0" b="23658"/>
          <a:stretch/>
        </p:blipFill>
        <p:spPr>
          <a:xfrm>
            <a:off x="985680" y="4917960"/>
            <a:ext cx="76028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 par Espresso sistē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78040" y="1252440"/>
            <a:ext cx="71056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206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https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1" descr=""/>
          <p:cNvPicPr/>
          <p:nvPr/>
        </p:nvPicPr>
        <p:blipFill>
          <a:blip r:embed="rId1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projekta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58600" y="1775880"/>
            <a:ext cx="7124760" cy="3038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urā apakšprogrammā (</a:t>
            </a:r>
            <a:r>
              <a:rPr b="0" i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Horisontal...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699000" y="266760"/>
            <a:ext cx="504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Nordplus Rokasgrāmata 2021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42. – 53. lp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600120" y="635940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https://www.nordplusonline.org/how-to-apply/hand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3114"/>
          <a:stretch/>
        </p:blipFill>
        <p:spPr>
          <a:xfrm>
            <a:off x="574560" y="266760"/>
            <a:ext cx="3124440" cy="41432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2"/>
          <a:stretch/>
        </p:blipFill>
        <p:spPr>
          <a:xfrm>
            <a:off x="5103720" y="1380960"/>
            <a:ext cx="363564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3577D1-5C1F-4473-B722-4F3A845F1BC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8732880" cy="519444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935920" cy="123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https://www.nordplusonline.org/how-to-apply/guidelin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811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tle 1"/>
          <p:cNvSpPr/>
          <p:nvPr/>
        </p:nvSpPr>
        <p:spPr>
          <a:xfrm>
            <a:off x="0" y="2984400"/>
            <a:ext cx="2590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Reģistrācija Espr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D</cp:lastModifiedBy>
  <cp:lastPrinted>2019-09-03T09:59:12Z</cp:lastPrinted>
  <dcterms:modified xsi:type="dcterms:W3CDTF">2021-01-15T16:51:56Z</dcterms:modified>
  <cp:revision>239</cp:revision>
  <dc:subject/>
  <dc:title>PowerPoint Presentation</dc:title>
</cp:coreProperties>
</file>